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F890-189E-46E4-A17E-088436CFE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C4F5-58DC-4597-93D5-32A2C66849F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1C0CF-82BF-4ED0-AD65-3AD4AF1F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18F99-8E50-454D-BDDB-87DB25DB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29B36-C8EC-4EDC-9CF1-2D9916B8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BF96B-B88E-4BC1-9622-78C9F1A4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391D5-CF9B-41ED-B393-0C5C7FA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32D76-69B1-4934-87BC-02093D40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A060D-D905-4968-AB00-30EB5F74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4CBE8-32A7-46EB-B7C0-6B671DD1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5AC70-26AA-4342-8E91-01F8656A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624DD-5C13-47A9-A842-6DF1C9B4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6122-66AA-43CB-BAB1-D8433C0023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FD025-16AF-4112-82EE-F8FD0247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3A37C-3331-4AF4-8C4F-76F50CFF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45F61-340E-43A1-9252-3D87E797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2A7A6-EBC8-405C-97D0-2A24677E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79E73-63EA-4DAC-9EDB-868DA6DD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1DF8F-58BD-4839-A5A5-C40B84A7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EF360-48CB-4DA5-BE6F-526DD68B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38AEC-B814-4F68-9352-75B7BC2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55A5E-FCC6-4084-A6AA-77FFA70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58249-8161-4205-85EC-99E439B3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D6D7-5D47-4092-8EBB-FA790966C0F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718D7-1CDB-4CB8-B969-E907DF62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5019EE-975E-4650-B74A-09BBD283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077FA5-317F-43FA-848B-9E1A7C5A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2A94A3-B3AB-4A01-9FC7-4E50B31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C1FFB4-50F6-4F4E-9F2C-336681C0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35B75A-A321-4EAE-9A39-B07B5A32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7789C6-B2FA-4E5F-8A64-465CCF3E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DAC622-4C0E-40E2-B5EA-93D9BB1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4CC21A-0880-4DCB-842E-2B3D52DB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233A35-0567-40C0-B456-82FE935B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C1A68-5170-4DAC-8175-02494F1A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C437EC-DDD5-4B4B-8BDE-F28CF618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AC0AA4-92CE-4379-858E-DE7DF706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F4DB50-410C-4A41-8B9E-CCE33B06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10D1E-99B0-4B5D-B01E-87529EA3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ABCA8-AAC0-438D-9A7A-5C8211DA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C0D19-052F-47EE-8B00-9A54D87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AEF5A-A5E6-4BA1-86CB-ECF7E411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99454-07CC-4760-9062-AD9CA8C4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96A47-6C1D-42A0-A8E9-18113906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83BD37-DCFE-467C-83D1-500D343E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E9328-74B8-4AF3-AC8E-98018FD5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52553-9EA8-4295-A310-F8349BB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6AAC8-71E7-459C-97F2-979A2464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78F12-8E10-4679-B02D-6E316E30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FCEF5-E392-4F30-8912-75BE5AC9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C0CDF-BBE7-4307-A1BF-E2ADAE33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E72435-B284-4F21-9AB5-AC08F70A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893900-FFDE-4E26-9F40-FAD0B923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C495B9-861A-445B-81FA-28609A2C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99172C-3705-4375-A9FD-1D2D1895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9D6C63-9E4E-4818-9746-0AD4824E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1DDAE-B491-4DE5-9713-D6D9E0F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21AD33-24B0-40A6-871D-09C48161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683639-6FFA-4126-8A1B-B1DA041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F0D9FA-6997-4CB7-872F-FF1CD8C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6ADA8D-0D41-495C-B0A8-F91076CC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A4784C-2CB7-49D8-BF7E-E29C09A0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18ABAB-204C-4374-9E44-EB0826DE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EB6407-5655-4DFB-8660-93B3EEEB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A77E3-7D6A-4E02-A3A7-A785046D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F2876-A4FC-4DE0-8C1F-B797B1A3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808E4-D97C-4FF7-A0AD-9F60104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71880-2A92-4C88-BF7B-53E4250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EB43-880A-4E0C-A23D-FE7A701B8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158ED-F5A3-492A-8CCA-C536D42A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3A68B-C4A1-4FAE-8B6E-C21F89CB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552E8-B348-46DC-AA6B-303421D2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36161-A734-4217-8010-0904A793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D5637-68F5-4E69-8832-FD43A0DB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31E7BE-9BC8-47F9-B765-32EF3F8B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14BAB-4EEF-4A25-AA75-0609C436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B866F-2850-49AF-BFBE-8321E68A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E367FF-E80E-4940-8101-C633BC32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B2E76-A426-4C2B-AFBE-9E516D9D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B311-AF48-4FAF-9C24-B8317D997D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D04BD4-48C8-465E-B650-97344E49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D0BA5-3AB9-498D-A912-0712ED61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06A48-0102-4AF4-BAAA-89616C1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EC922-91C4-49E7-8F97-06695DC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621F7-3FE7-4E3A-8F29-17E9B451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A9DBF-E882-4C42-BD55-55924EBF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C317A6-228E-438C-9E9C-70EA27A3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BDB38-87B2-4D5F-BC75-2D22BFC3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543C3-B4DD-4F32-B4BB-291EF002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BA8681-9ED1-4D7E-BD82-2B801178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B74F-B669-43A4-A264-B1F4605D36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1EEBC4-0907-4A89-B2B5-842ED7D1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1C49C-8EC8-4517-8EB2-4DAC78A1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B7E8A-57E6-4278-8F70-8238F2BB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D7CB5-5D1E-4ACB-B44C-56FB44D5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D052D-6555-45AF-AB6B-FBD854F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E396A-D271-42E9-B5B7-52683F6A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794E6-914E-47B4-8D1B-8B1A2B61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86FF1-8CA0-4E48-80B8-98FD3768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82895-8FD8-4293-83D4-713ED157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378E4C-CD6A-480A-BF02-E3A678D7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4A83-EA3F-4734-A76A-58872ECDB7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02F52C-E5BC-4BB1-A762-3E5FB92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A2398-CCC4-43F1-826F-1FD4BA84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3C6C76-FC22-4F47-8B21-1B1BA44A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721FD-E4E2-41BF-8CBF-31F16C6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751BC7-5C40-4B64-B483-6E37C71E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B19909-A1AF-4A24-9230-A8656ADE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4B3C82-B4B1-4152-A018-02D8A2F1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A6F657-CC2B-4D13-B135-2F3FC55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326F4C-DA85-423C-9787-D0F2F6D8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E5219A-8FAD-4D11-BC23-1A137CF1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9B37-56AA-4941-A9E2-F0C0B5C5CC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DB5154-9245-4641-9472-6B120D1E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69C02B-8E5D-4C71-BA03-D688FA5E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FBC16-6DB0-4F8B-8AFB-C9658B29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F01803-0131-45D5-9E9A-BDD1DEED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C5724B-8683-4F55-81F0-551C0450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ED9466-94DB-420C-9135-DD69970E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AA722B-A179-4C0E-A9F9-7328D9BB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4C44D-B422-4A16-8594-040CD7A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C349C-E70D-494B-9CEE-CC36651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24F9B8-861D-43BD-8FFC-45E6E95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22A6-3279-4ED9-BDAB-D27496535AA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4486A-1D45-4E10-AEF0-0406487C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C4170B-692D-46DD-A488-DD73E50B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B7B54-C8A6-4A19-A77E-234D4303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27E96B-EB72-4E39-BCE7-684FAD52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EABAE5-E9BD-4DE7-9BF2-49E6969D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B72843-7A23-4CD6-9B1A-F485D2C5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CDF842-4156-4D56-B588-6594DFE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E7960-6FBC-4307-A427-194E168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B1D035-FA67-41FE-B6BD-3B584684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9D056A-EBA9-466F-84B9-33C7821B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26C9-FE03-4ADB-9CB5-7842CA91F67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46675-3F9B-4F46-B6A2-9194766B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FB489B-F8C5-4DC5-9BC1-2B1EB90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AD60B7-671A-4459-B9FF-DE9CBD7C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F87DFA-C9CF-4DDD-B0A0-08D0D2D9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371F28-7899-43AE-BE5C-F9A7794A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5EB5F7-84E5-4832-BF67-362B5875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45BF8B-2DEF-42DC-A3E9-94D97A71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E2F40B-0F83-4D89-B606-28FCE5C5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9174DF-B645-4697-B2E5-A16D028A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40F508-516A-4FA0-BF6C-F9EE03DA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4BA5-27FF-4296-A663-48E5763FFF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608C41-1794-4200-B72C-B9F1805A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EF2E8-4D93-4DAE-95C8-51BC5A8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29A877-9C79-4E20-B9F5-2E1BB501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D81B2A-6B81-4876-891C-AB24A8B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AA96EC-FBD0-44FB-958D-7F73CEE9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148D06-FCCB-48D0-9E2D-5FDDC517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43C910-62CD-4DAC-8534-D8042C0A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D28F0-E7AE-4C75-A6BC-B4299673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D1175-DEB7-430F-BA54-CB04B038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A79E7-8C97-4930-8857-7D061F2A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DE6527-F37F-44C6-95E5-60AB3F517BBF}" type="slidenum">
              <a:rPr b="0" lang="ru-RU" sz="18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FD9A62-A389-4D0C-9F61-1F262ADF878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56CD46-0A46-4234-8746-F1F8BB5F805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253081-D5C4-4380-BEC8-5F34A4E855B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8D817A-AE23-4524-8E72-D80EC090208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85DC-F12B-4DD2-AE57-57AEDB182D5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9EC023-B14E-4FC5-98BD-3B6EB4FFBD7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7FA3D9-016D-488E-AAA7-DDDFADBD64C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C9DFE7-E8E8-4FB7-AE84-AE682ACE166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550F77-FB7F-4FA9-A5B5-7682F2D7159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74C801-143C-415B-BF75-6E35E737440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2EF873-4B0A-4BE6-A7F7-22ACB3E5EE2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fc6"/>
            </a:gs>
            <a:gs pos="50000">
              <a:srgbClr val="dbccde"/>
            </a:gs>
            <a:gs pos="100000">
              <a:srgbClr val="25ffc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46455B-1206-40DB-B8CC-F933A85CB75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20808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ЭМОЦИИ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ечт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4" name="Picture 5" descr="000803_1063_3051_vuvv"/>
          <p:cNvPicPr/>
          <p:nvPr/>
        </p:nvPicPr>
        <p:blipFill>
          <a:blip r:embed="rId1"/>
          <a:stretch/>
        </p:blipFill>
        <p:spPr>
          <a:xfrm>
            <a:off x="3124080" y="1905120"/>
            <a:ext cx="2914920" cy="4422600"/>
          </a:xfrm>
          <a:prstGeom prst="rect">
            <a:avLst/>
          </a:prstGeom>
          <a:ln w="0">
            <a:noFill/>
          </a:ln>
        </p:spPr>
      </p:pic>
      <p:pic>
        <p:nvPicPr>
          <p:cNvPr id="565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418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Секретнича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7" name="Picture 5" descr="000803_1063_3048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328920" cy="4907160"/>
          </a:xfrm>
          <a:prstGeom prst="rect">
            <a:avLst/>
          </a:prstGeom>
          <a:ln w="0">
            <a:noFill/>
          </a:ln>
        </p:spPr>
      </p:pic>
      <p:pic>
        <p:nvPicPr>
          <p:cNvPr id="568" name="Запи2457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04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амышляет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0" name="Picture 5" descr="000803_1063_3049_vuvv"/>
          <p:cNvPicPr/>
          <p:nvPr/>
        </p:nvPicPr>
        <p:blipFill>
          <a:blip r:embed="rId1"/>
          <a:stretch/>
        </p:blipFill>
        <p:spPr>
          <a:xfrm>
            <a:off x="3048120" y="1600200"/>
            <a:ext cx="3146400" cy="4708440"/>
          </a:xfrm>
          <a:prstGeom prst="rect">
            <a:avLst/>
          </a:prstGeom>
          <a:ln w="0">
            <a:noFill/>
          </a:ln>
        </p:spPr>
      </p:pic>
      <p:pic>
        <p:nvPicPr>
          <p:cNvPr id="571" name="Запи2457.WAV" descr=""/>
          <p:cNvPicPr/>
          <p:nvPr/>
        </p:nvPicPr>
        <p:blipFill>
          <a:blip r:embed="rId2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822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Радостный, возбужден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3" name="Picture 5" descr="000803_1063_3047_vuvv"/>
          <p:cNvPicPr/>
          <p:nvPr/>
        </p:nvPicPr>
        <p:blipFill>
          <a:blip r:embed="rId1"/>
          <a:stretch/>
        </p:blipFill>
        <p:spPr>
          <a:xfrm>
            <a:off x="3124080" y="1523880"/>
            <a:ext cx="3019680" cy="5015160"/>
          </a:xfrm>
          <a:prstGeom prst="rect">
            <a:avLst/>
          </a:prstGeom>
          <a:ln w="0">
            <a:noFill/>
          </a:ln>
        </p:spPr>
      </p:pic>
      <p:pic>
        <p:nvPicPr>
          <p:cNvPr id="574" name="Запи2457.WAV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9439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Озадачен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6" name="Picture 5" descr="000803_1063_3050_vuvv"/>
          <p:cNvPicPr/>
          <p:nvPr/>
        </p:nvPicPr>
        <p:blipFill>
          <a:blip r:embed="rId1"/>
          <a:stretch/>
        </p:blipFill>
        <p:spPr>
          <a:xfrm>
            <a:off x="3048120" y="1676520"/>
            <a:ext cx="2925720" cy="4722840"/>
          </a:xfrm>
          <a:prstGeom prst="rect">
            <a:avLst/>
          </a:prstGeom>
          <a:ln w="0">
            <a:noFill/>
          </a:ln>
        </p:spPr>
      </p:pic>
      <p:pic>
        <p:nvPicPr>
          <p:cNvPr id="577" name="Запи2473.WAV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96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ривляется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9" name="Picture 5" descr="000803_1063_3052_vuvv"/>
          <p:cNvPicPr/>
          <p:nvPr/>
        </p:nvPicPr>
        <p:blipFill>
          <a:blip r:embed="rId1"/>
          <a:stretch/>
        </p:blipFill>
        <p:spPr>
          <a:xfrm>
            <a:off x="2743200" y="1676520"/>
            <a:ext cx="3787920" cy="4566960"/>
          </a:xfrm>
          <a:prstGeom prst="rect">
            <a:avLst/>
          </a:prstGeom>
          <a:ln w="0">
            <a:noFill/>
          </a:ln>
        </p:spPr>
      </p:pic>
      <p:pic>
        <p:nvPicPr>
          <p:cNvPr id="580" name="Запи2473.WAV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542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" descr=""/>
          <p:cNvPicPr/>
          <p:nvPr/>
        </p:nvPicPr>
        <p:blipFill>
          <a:blip r:embed="rId1"/>
          <a:stretch/>
        </p:blipFill>
        <p:spPr>
          <a:xfrm>
            <a:off x="155520" y="136440"/>
            <a:ext cx="884556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79280" y="544320"/>
            <a:ext cx="8229600" cy="6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Что такое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Какие бывают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Как можно выразить эмоци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.Перечисли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5.Перечисли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6.Почему важно научиться управлять своими эмоциями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В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омпьютерный тест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ДАНИЕ С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.Определи, какие чувства испытывают ребята на рисунке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.Закончи предложение(начало см. на доске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.Напиши 2-3 совета, которые помогут твоему другу избавиться от плохого настроен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Эмоции человек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4" descr="000803_1065_1904_vnvv"/>
          <p:cNvPicPr/>
          <p:nvPr/>
        </p:nvPicPr>
        <p:blipFill>
          <a:blip r:embed="rId1"/>
          <a:stretch/>
        </p:blipFill>
        <p:spPr>
          <a:xfrm>
            <a:off x="304920" y="3962520"/>
            <a:ext cx="1633320" cy="2573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000803_1065_0322_vuvv"/>
          <p:cNvPicPr/>
          <p:nvPr/>
        </p:nvPicPr>
        <p:blipFill>
          <a:blip r:embed="rId2"/>
          <a:stretch/>
        </p:blipFill>
        <p:spPr>
          <a:xfrm>
            <a:off x="7010280" y="228600"/>
            <a:ext cx="2133720" cy="2365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0803_1065_1829_vnvv"/>
          <p:cNvPicPr/>
          <p:nvPr/>
        </p:nvPicPr>
        <p:blipFill>
          <a:blip r:embed="rId3"/>
          <a:stretch/>
        </p:blipFill>
        <p:spPr>
          <a:xfrm>
            <a:off x="6629400" y="3886200"/>
            <a:ext cx="2044800" cy="2752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0803_1065_4090_vnvv"/>
          <p:cNvPicPr/>
          <p:nvPr/>
        </p:nvPicPr>
        <p:blipFill>
          <a:blip r:embed="rId4"/>
          <a:stretch/>
        </p:blipFill>
        <p:spPr>
          <a:xfrm>
            <a:off x="152280" y="0"/>
            <a:ext cx="1662120" cy="2705040"/>
          </a:xfrm>
          <a:prstGeom prst="rect">
            <a:avLst/>
          </a:prstGeom>
          <a:ln w="0">
            <a:noFill/>
          </a:ln>
        </p:spPr>
      </p:pic>
      <p:pic>
        <p:nvPicPr>
          <p:cNvPr id="542" name="Запи2442.WAV" descr=""/>
          <p:cNvPicPr/>
          <p:nvPr/>
        </p:nvPicPr>
        <p:blipFill>
          <a:blip r:embed="rId5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4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У людей бывает разное настроение, от которого зависит выражение лица. Глядя на лицо, можно сказать, что чувствует человек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4" name="Запи2442.WAV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000803_1064_4238_vuvv"/>
          <p:cNvPicPr/>
          <p:nvPr/>
        </p:nvPicPr>
        <p:blipFill>
          <a:blip r:embed="rId2"/>
          <a:stretch/>
        </p:blipFill>
        <p:spPr>
          <a:xfrm>
            <a:off x="4495680" y="3733920"/>
            <a:ext cx="4419720" cy="291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000803_1064_6011_vnvv"/>
          <p:cNvPicPr/>
          <p:nvPr/>
        </p:nvPicPr>
        <p:blipFill>
          <a:blip r:embed="rId3"/>
          <a:stretch/>
        </p:blipFill>
        <p:spPr>
          <a:xfrm>
            <a:off x="228600" y="1447920"/>
            <a:ext cx="3921120" cy="4133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000803_1054_6855_vuvv"/>
          <p:cNvPicPr/>
          <p:nvPr/>
        </p:nvPicPr>
        <p:blipFill>
          <a:blip r:embed="rId4"/>
          <a:stretch/>
        </p:blipFill>
        <p:spPr>
          <a:xfrm>
            <a:off x="4572000" y="1600200"/>
            <a:ext cx="221760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105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Добрый</a:t>
            </a: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9" name="Picture 5" descr="000803_1063_3043_vuvv"/>
          <p:cNvPicPr/>
          <p:nvPr/>
        </p:nvPicPr>
        <p:blipFill>
          <a:blip r:embed="rId1"/>
          <a:stretch/>
        </p:blipFill>
        <p:spPr>
          <a:xfrm>
            <a:off x="3048120" y="1828800"/>
            <a:ext cx="3287520" cy="4524480"/>
          </a:xfrm>
          <a:prstGeom prst="rect">
            <a:avLst/>
          </a:prstGeom>
          <a:ln w="0">
            <a:noFill/>
          </a:ln>
        </p:spPr>
      </p:pic>
      <p:pic>
        <p:nvPicPr>
          <p:cNvPr id="550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26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Недовольны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2" name="Picture 5" descr="000803_1063_3042_vuvv"/>
          <p:cNvPicPr/>
          <p:nvPr/>
        </p:nvPicPr>
        <p:blipFill>
          <a:blip r:embed="rId1"/>
          <a:stretch/>
        </p:blipFill>
        <p:spPr>
          <a:xfrm>
            <a:off x="2895480" y="1295280"/>
            <a:ext cx="3409920" cy="5149800"/>
          </a:xfrm>
          <a:prstGeom prst="rect">
            <a:avLst/>
          </a:prstGeom>
          <a:ln w="0">
            <a:noFill/>
          </a:ln>
        </p:spPr>
      </p:pic>
      <p:pic>
        <p:nvPicPr>
          <p:cNvPr id="553" name="Запи2457.WAV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9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Испуган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000803_1063_3045_vuvv"/>
          <p:cNvPicPr/>
          <p:nvPr/>
        </p:nvPicPr>
        <p:blipFill>
          <a:blip r:embed="rId1"/>
          <a:stretch/>
        </p:blipFill>
        <p:spPr>
          <a:xfrm>
            <a:off x="2819520" y="1676520"/>
            <a:ext cx="379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6" name="Запи2457.WAV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742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Веселый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5" descr="000803_1063_3044_vuvv"/>
          <p:cNvPicPr/>
          <p:nvPr/>
        </p:nvPicPr>
        <p:blipFill>
          <a:blip r:embed="rId1"/>
          <a:stretch/>
        </p:blipFill>
        <p:spPr>
          <a:xfrm>
            <a:off x="2895480" y="1752480"/>
            <a:ext cx="3459240" cy="4560840"/>
          </a:xfrm>
          <a:prstGeom prst="rect">
            <a:avLst/>
          </a:prstGeom>
          <a:ln w="0">
            <a:noFill/>
          </a:ln>
        </p:spPr>
      </p:pic>
      <p:pic>
        <p:nvPicPr>
          <p:cNvPr id="559" name="Запи2457.WAV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6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Злой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1" name="Picture 5" descr="000803_1063_3046_vuvv"/>
          <p:cNvPicPr/>
          <p:nvPr/>
        </p:nvPicPr>
        <p:blipFill>
          <a:blip r:embed="rId1"/>
          <a:stretch/>
        </p:blipFill>
        <p:spPr>
          <a:xfrm>
            <a:off x="3048120" y="1600200"/>
            <a:ext cx="2962080" cy="5014800"/>
          </a:xfrm>
          <a:prstGeom prst="rect">
            <a:avLst/>
          </a:prstGeom>
          <a:ln w="0">
            <a:noFill/>
          </a:ln>
        </p:spPr>
      </p:pic>
      <p:pic>
        <p:nvPicPr>
          <p:cNvPr id="562" name="Запи2457.WAV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53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школа</cp:lastModifiedBy>
  <dcterms:modified xsi:type="dcterms:W3CDTF">2012-03-17T03:24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